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426-0DD3-4CF7-A03C-7E873F4D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F90-9157-4B88-8D93-32915E26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7DE-1605-4C82-8CD2-0212AE15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E0D-3D7E-494F-B4A2-C013CEDF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A15E-CD51-4ADB-ADBF-29F2C655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AB09-394E-4020-9F8F-228C15D3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A984-461B-4581-BAA2-1AD9F894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FBD4-FBCF-4146-B24A-308B6085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3B4C-8A19-4A93-B40C-9CD78CB4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32C6-9252-4F92-A1F9-93572018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487E-EE8F-46AE-924F-4D8A83BD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576-59C3-4FD4-88F0-6705BD7C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59DA-8A60-4A44-9968-B446A85C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DA56-C279-4482-9FA4-52EC94ED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158F-BE00-466D-9521-3D29D34F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9EF6-0323-4C74-BC3E-55EB5C4C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4602-31D9-4334-8513-4B9217A6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816-D382-42C1-A078-BC0FF8FF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8D6-B859-4185-876B-30F3F583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364-8FA4-4D82-821F-E6DE0C16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384-DC16-4FB4-AA47-058B994F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732-5A35-4101-A6C4-C5E1C110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98C-E240-43CA-A8F7-18A3259E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484-8EC3-4634-8937-82DA4226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9E9B-CAD3-4FF8-909A-4C7914753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75C8-CF2A-46D9-A2B6-81124D0EE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opposed the Ts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addison, Bexi,Grace and Dona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185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75ff"/>
            </a:gs>
            <a:gs pos="100000">
              <a:srgbClr val="ff0c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86600" y="2743200"/>
            <a:ext cx="100188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cialist revolutionary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utura"/>
              </a:rPr>
              <a:t>Their opposition: the Russian social democra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utura"/>
              </a:rPr>
              <a:t>The party of socialist revolutionaries was founded in 1901 one of the main leaders was Victor Chernov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utura"/>
              </a:rPr>
              <a:t>In 1896 the northern union of socialist revolutionaries was forme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utura"/>
              </a:rPr>
              <a:t>The main policy of the socialist revolutionaries was to share land among the peasants according to nee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utura"/>
              </a:rPr>
              <a:t>A maximum 8-hour day for factory work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utura"/>
              </a:rPr>
              <a:t>Victor Chernov disagreed with the believes of Marxists who claimed that the peasants were a social class.</a:t>
            </a:r>
            <a:r>
              <a:rPr b="0" lang="en-US" sz="2000" spc="-1" strike="noStrike">
                <a:solidFill>
                  <a:srgbClr val="000000"/>
                </a:solidFill>
                <a:latin typeface="Futu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Why did the social revolutionists fai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ly they could not gain the support of the peas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ly they could not decide as a party on how to move Russia 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eliefs caused argu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ed November 19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c7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ssia could go from feudalism to socialism without capitali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easants are the revolutionary class not the urban wor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olution will be start through terrori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get rid of the T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give all the land to the peas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ct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olent 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100" spc="-1" strike="noStrike">
                <a:solidFill>
                  <a:srgbClr val="000080"/>
                </a:solidFill>
                <a:latin typeface="Arial"/>
              </a:rPr>
              <a:t>T</a:t>
            </a:r>
            <a:r>
              <a:rPr b="0" lang="en-US" sz="14100" spc="-1" strike="noStrike">
                <a:solidFill>
                  <a:srgbClr val="004080"/>
                </a:solidFill>
                <a:latin typeface="Arial"/>
              </a:rPr>
              <a:t>h</a:t>
            </a:r>
            <a:r>
              <a:rPr b="0" lang="en-US" sz="141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100" spc="-1" strike="noStrike">
                <a:solidFill>
                  <a:srgbClr val="0080ff"/>
                </a:solidFill>
                <a:latin typeface="Arial"/>
              </a:rPr>
              <a:t>E</a:t>
            </a:r>
            <a:r>
              <a:rPr b="0" lang="en-US" sz="14100" spc="-1" strike="noStrike">
                <a:solidFill>
                  <a:srgbClr val="6666ff"/>
                </a:solidFill>
                <a:latin typeface="Arial"/>
              </a:rPr>
              <a:t>n</a:t>
            </a:r>
            <a:r>
              <a:rPr b="0" lang="en-US" sz="14100" spc="-1" strike="noStrike">
                <a:solidFill>
                  <a:srgbClr val="66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06:12:29Z</dcterms:created>
  <dc:creator>Office 2004 Test Drive User</dc:creator>
  <dc:description/>
  <dc:language>en-US</dc:language>
  <cp:lastModifiedBy>Office 2004 Test Drive User</cp:lastModifiedBy>
  <dcterms:modified xsi:type="dcterms:W3CDTF">2007-09-14T05:36:46Z</dcterms:modified>
  <cp:revision>5</cp:revision>
  <dc:subject/>
  <dc:title>Who opposed the Tsar?</dc:title>
</cp:coreProperties>
</file>